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CAMERA.WAV" ContentType="audio/x-wav"/>
  <Override PartName="/ppt/media/image17.jpeg" ContentType="image/jpeg"/>
  <Override PartName="/ppt/media/image25.png" ContentType="image/png"/>
  <Override PartName="/ppt/media/image42.jpeg" ContentType="image/jpeg"/>
  <Override PartName="/ppt/media/image27.png" ContentType="image/png"/>
  <Override PartName="/ppt/media/image4.gif" ContentType="image/gif"/>
  <Override PartName="/ppt/media/TYPE.WAV" ContentType="audio/x-wav"/>
  <Override PartName="/ppt/media/image16.jpeg" ContentType="image/jpeg"/>
  <Override PartName="/ppt/media/image24.png" ContentType="image/png"/>
  <Override PartName="/ppt/media/image21.jpeg" ContentType="image/jpeg"/>
  <Override PartName="/ppt/media/image19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33.png" ContentType="image/png"/>
  <Override PartName="/ppt/media/image22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4.jpeg" ContentType="image/jpeg"/>
  <Override PartName="/ppt/media/image28.jpeg" ContentType="image/jpeg"/>
  <Override PartName="/ppt/media/image18.png" ContentType="image/png"/>
  <Override PartName="/ppt/media/LASER.WAV" ContentType="audio/x-wav"/>
  <Override PartName="/ppt/media/image31.jpeg" ContentType="image/jpeg"/>
  <Override PartName="/ppt/media/WHOOSH.WAV" ContentType="audio/x-wav"/>
  <Override PartName="/ppt/media/image40.png" ContentType="image/png"/>
  <Override PartName="/ppt/media/image32.png" ContentType="image/png"/>
  <Override PartName="/ppt/media/image41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795-D09C-4E8C-AED6-37379A57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1A5-B209-4979-A124-2CDD0F2F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C05-98D7-48DF-BCC9-467BDB36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49DF-C812-4F79-8085-3131E230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6E8D-0947-4584-BB8D-2BEC5D88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2B84-9A77-47BB-9C86-73425162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B135-BC29-4D4F-B733-C1A9FFE5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E7BB-E977-4F5A-9B99-1DA96C15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2A97-4263-4D49-9328-B12F0288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08E8-C8D4-4612-9EE0-4EBCDFB4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4918-F4B2-4683-BAEB-D7B1A9CA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63A-FDA2-40A4-9311-E61784F7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BB08-DEF8-4127-ADE8-BFF2BD7A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CFE0-DF36-4D47-B0F8-6D4738D0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EA1B-A7C6-4DB4-810B-538480D3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2CFA-3302-4995-8F4C-E07C49AA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01DC-2CD3-43E8-8CBF-E89C3BC2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46928-E0CE-4F59-9FC5-BA3B71BA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7589A-571F-4BC8-B2DB-CA163F13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17A1-8FAE-4182-935E-F26C1FA3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141B-5792-4DFA-92C7-303399B5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1933E-8265-4D08-898F-48A123F2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879-15DE-4292-8476-9AB51E66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12945-93B1-45B2-92B1-84FA3C49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544F2-5B8C-4EAD-8174-A6144571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C9893-CE0F-43CD-A376-6E356063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B01C6-5D1D-4137-A3AD-5655BC71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2F36-7E15-49DE-BA2E-6E1B4AF2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2AB3-BA68-4A1B-99F4-93E260EE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3822-A958-435C-9B11-5DE8F9FC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FBEFB-5FFB-44E4-92DC-CF92B082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0ECE2-B9E2-450C-BC20-D80CCD8D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4E29D-E16F-4FBA-958F-F75EEF41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FFC-BC4B-4C74-A972-0F27707F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CF039-5E2E-4DB6-812A-A811E432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6DC5F-CE4D-42CE-A242-086E37A8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0CED3-3722-48F0-BE75-D1D5D8B6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81F3B-C1FC-4188-9D80-EFAC4C3E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161F1-8767-4979-B585-25151E13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7EA98-6C4C-44F9-9732-ABFF4586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95840-DB86-4122-94D4-09BB0C4A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979B-7223-4D88-AD42-F1915A3D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50822-C5F3-48C7-AAAC-2A2A5D8E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540-2888-41B4-A7E9-7B9EEE96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56F-9D7A-4494-A234-0272CA1D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5C3-F6EB-46AA-BBA7-532FCE7F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8DD3-483A-40E6-9179-DC9A3753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863-F79C-4159-BBE2-D9BAE8CF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CFB7-2192-4549-8091-2F2DD14F17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FB27-769A-4D99-8D2F-1941ACCB0C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238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2F5D-1CB5-4ABB-8D59-3A9FEB46F1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8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8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E10B-B093-4C9D-A3B8-AC5D9E82AF7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amap.no/maps-gra/show.cfm?figureId=74" TargetMode="External"/><Relationship Id="rId2" Type="http://schemas.openxmlformats.org/officeDocument/2006/relationships/image" Target="../media/image3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strolabes.org/fusoris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WordArt 4"/>
          <p:cNvSpPr txBox="1"/>
          <p:nvPr/>
        </p:nvSpPr>
        <p:spPr>
          <a:xfrm>
            <a:off x="1600200" y="685800"/>
            <a:ext cx="6095880" cy="24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ploration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6" name="Picture 6" descr="ccship"/>
          <p:cNvPicPr/>
          <p:nvPr/>
        </p:nvPicPr>
        <p:blipFill>
          <a:blip r:embed="rId1"/>
          <a:stretch/>
        </p:blipFill>
        <p:spPr>
          <a:xfrm>
            <a:off x="1295280" y="3124080"/>
            <a:ext cx="5327640" cy="33372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7"/>
          <p:cNvSpPr/>
          <p:nvPr/>
        </p:nvSpPr>
        <p:spPr>
          <a:xfrm>
            <a:off x="5275080" y="342900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ld Imperialis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Ottoman Empire in 1500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6" name="Picture 5" descr="entity_6084"/>
          <p:cNvPicPr/>
          <p:nvPr/>
        </p:nvPicPr>
        <p:blipFill>
          <a:blip r:embed="rId1"/>
          <a:stretch/>
        </p:blipFill>
        <p:spPr>
          <a:xfrm>
            <a:off x="1295280" y="990720"/>
            <a:ext cx="6934320" cy="5600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Arial"/>
              </a:rPr>
              <a:t>Moti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Later, England, France , and Dutch explorers searched for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W passa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Some looked for gold or the Fountain of You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9" name="Picture 5" descr="hh3"/>
          <p:cNvPicPr/>
          <p:nvPr/>
        </p:nvPicPr>
        <p:blipFill>
          <a:blip r:embed="rId1"/>
          <a:stretch/>
        </p:blipFill>
        <p:spPr>
          <a:xfrm>
            <a:off x="3352680" y="3809880"/>
            <a:ext cx="5105520" cy="279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 In the late 1400s and early 1500s, what was a major reason for the European voyages of explora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tion of Enlightenment id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re to control Constantin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pid industrial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for alternate trade ro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 The Crusades indirectly contributed to the discovery of the New World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cing the religious conversion of the Muslim pop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cing the Turks to flee from Constantin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imulating European demand for goods from the E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the power of feudal l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9900"/>
                </a:solidFill>
                <a:latin typeface="Matura MT Script Capitals"/>
              </a:rPr>
              <a:t>Zheng He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ura MT Script Capitals"/>
              </a:rPr>
              <a:t>China Does It First !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ura MT Script Capitals"/>
              </a:rPr>
              <a:t>14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6" name="Picture 9" descr="zhengB"/>
          <p:cNvPicPr/>
          <p:nvPr/>
        </p:nvPicPr>
        <p:blipFill>
          <a:blip r:embed="rId1"/>
          <a:stretch/>
        </p:blipFill>
        <p:spPr>
          <a:xfrm>
            <a:off x="3809880" y="2971800"/>
            <a:ext cx="1752840" cy="15336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1" descr="zhengA"/>
          <p:cNvPicPr/>
          <p:nvPr/>
        </p:nvPicPr>
        <p:blipFill>
          <a:blip r:embed="rId2"/>
          <a:stretch/>
        </p:blipFill>
        <p:spPr>
          <a:xfrm>
            <a:off x="3809880" y="1447920"/>
            <a:ext cx="1752840" cy="153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9900"/>
                </a:solidFill>
                <a:latin typeface="Matura MT Script Capitals"/>
              </a:rPr>
              <a:t>Reason For Explor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Bookman Old Style"/>
              </a:rPr>
              <a:t>Ming Dynasty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had just taken over and kicked out the Mongols – needed to assert themselves and prove their promin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Wanted to increase trade over Indian Ocean and extend their tribute sta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Hired a Chinese Muslim eunich – Zheng-He to do 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Rounded Rectangular Callout 1"/>
          <p:cNvSpPr/>
          <p:nvPr/>
        </p:nvSpPr>
        <p:spPr>
          <a:xfrm>
            <a:off x="3429000" y="5867280"/>
            <a:ext cx="4114800" cy="685800"/>
          </a:xfrm>
          <a:prstGeom prst="wedgeRoundRectCallout">
            <a:avLst>
              <a:gd name="adj1" fmla="val -21189"/>
              <a:gd name="adj2" fmla="val -125458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y is this unusual for Chinese to do?  What precidenc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00"/>
                </a:solidFill>
                <a:latin typeface="Matura MT Script Capitals"/>
              </a:rPr>
              <a:t>Zheng He’s Travels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22" name="Picture 5" descr="mapchengho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445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Matura MT Script Capitals"/>
              </a:rPr>
              <a:t>Zheng He’s ship compared to Columbus’s St. Mari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24" name="Picture 5" descr="chengh2v"/>
          <p:cNvPicPr/>
          <p:nvPr/>
        </p:nvPicPr>
        <p:blipFill>
          <a:blip r:embed="rId1"/>
          <a:stretch/>
        </p:blipFill>
        <p:spPr>
          <a:xfrm>
            <a:off x="1295280" y="1828800"/>
            <a:ext cx="6553440" cy="457056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"/>
          <p:cNvSpPr/>
          <p:nvPr/>
        </p:nvSpPr>
        <p:spPr>
          <a:xfrm>
            <a:off x="6629400" y="1523880"/>
            <a:ext cx="22860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he had 300 of these!!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Boats - Junk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6840" y="1599840"/>
            <a:ext cx="563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ll over 400 feet by 150 feet – largest wooden vessels ever bui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ral decks below the main deck and several decks above at the stern of the 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w of any where between 450-700 membe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le to handle deep ocean weather due to their very deep, sharp keel which gave them more st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8" name="Picture 2" descr="Picture"/>
          <p:cNvPicPr/>
          <p:nvPr/>
        </p:nvPicPr>
        <p:blipFill>
          <a:blip r:embed="rId1"/>
          <a:stretch/>
        </p:blipFill>
        <p:spPr>
          <a:xfrm>
            <a:off x="6095880" y="1905120"/>
            <a:ext cx="2924280" cy="2523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hile exploring, demanded native people to submit to the </a:t>
            </a: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Emperor’s autho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~ if natives refused, force was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~accepting,  rulers were </a:t>
            </a: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rewarded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ith 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gold or sil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rought back trade goods and gifts from visited la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Matura MT Script Capitals"/>
              </a:rPr>
              <a:t>As He Travele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3"/>
          <p:cNvSpPr/>
          <p:nvPr/>
        </p:nvSpPr>
        <p:spPr>
          <a:xfrm>
            <a:off x="1827720" y="608040"/>
            <a:ext cx="59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ge of Discovery 1340-160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explorer_map_shepherd_b"/>
          <p:cNvPicPr/>
          <p:nvPr/>
        </p:nvPicPr>
        <p:blipFill>
          <a:blip r:embed="rId1"/>
          <a:stretch/>
        </p:blipFill>
        <p:spPr>
          <a:xfrm>
            <a:off x="-152280" y="15238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990720" y="304920"/>
            <a:ext cx="73152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9900"/>
                </a:solidFill>
                <a:latin typeface="Matura MT Script Capitals"/>
              </a:rPr>
              <a:t>Know This Map !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2" name="Picture 2" descr="http://precolumbianoceanictravel.weebly.com/uploads/4/0/8/6/4086875/9845461.jpg?617"/>
          <p:cNvPicPr/>
          <p:nvPr/>
        </p:nvPicPr>
        <p:blipFill>
          <a:blip r:embed="rId1"/>
          <a:stretch/>
        </p:blipFill>
        <p:spPr>
          <a:xfrm>
            <a:off x="1600200" y="1905120"/>
            <a:ext cx="7010280" cy="36590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http://1.bp.blogspot.com/-9q8-3vk6T0E/UV2oEyetoPI/AAAAAAAABVk/k_Hoqcdbp-4/s1600/13-+Tribute+Giraffe+from+Bengal+(from+Zheng+He's+expeditions),+Qing+dynasty+copy+of+a+Ming+dynasty+silk+scroll+painting+by+Shen+Du.png"/>
          <p:cNvPicPr/>
          <p:nvPr/>
        </p:nvPicPr>
        <p:blipFill>
          <a:blip r:embed="rId2"/>
          <a:stretch/>
        </p:blipFill>
        <p:spPr>
          <a:xfrm>
            <a:off x="533520" y="3962520"/>
            <a:ext cx="1901880" cy="232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9900"/>
                </a:solidFill>
                <a:latin typeface="Matura MT Script Capitals"/>
              </a:rPr>
              <a:t>Results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Later rulers thought ocean voyages to be </a:t>
            </a:r>
            <a:r>
              <a:rPr b="0" lang="en-US" sz="3000" spc="-1" strike="noStrike">
                <a:solidFill>
                  <a:srgbClr val="cc0000"/>
                </a:solidFill>
                <a:latin typeface="Bookman Old Style"/>
              </a:rPr>
              <a:t>too costl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As a result China decided to focus its funds on its </a:t>
            </a:r>
            <a:r>
              <a:rPr b="0" lang="en-US" sz="3000" spc="-1" strike="noStrike">
                <a:solidFill>
                  <a:srgbClr val="cc0000"/>
                </a:solidFill>
                <a:latin typeface="Bookman Old Style"/>
              </a:rPr>
              <a:t>military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Chinese rulers found </a:t>
            </a:r>
            <a:r>
              <a:rPr b="0" lang="en-US" sz="3000" spc="-1" strike="noStrike">
                <a:solidFill>
                  <a:srgbClr val="cc0000"/>
                </a:solidFill>
                <a:latin typeface="Bookman Old Style"/>
              </a:rPr>
              <a:t>exploration did not benefit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them personally so it was eventually hal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After this emperors </a:t>
            </a:r>
            <a:r>
              <a:rPr b="0" lang="en-US" sz="3000" spc="-1" strike="noStrike">
                <a:solidFill>
                  <a:srgbClr val="cc0000"/>
                </a:solidFill>
                <a:latin typeface="Bookman Old Style"/>
              </a:rPr>
              <a:t>discouraged trade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with foreign countries – became </a:t>
            </a: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isola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Rounded Rectangular Callout 1"/>
          <p:cNvSpPr/>
          <p:nvPr/>
        </p:nvSpPr>
        <p:spPr>
          <a:xfrm>
            <a:off x="609480" y="5662440"/>
            <a:ext cx="7086600" cy="966960"/>
          </a:xfrm>
          <a:prstGeom prst="wedgeRoundRectCallout">
            <a:avLst>
              <a:gd name="adj1" fmla="val 33361"/>
              <a:gd name="adj2" fmla="val -85300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ties into Chinese belief of superiority known as….  What country also went into isolation around this time perio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Think….  Up until 145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na had better technology than W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na had more unity than W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na had greater natural resources including population than W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na had larger cities than W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hat if China did not give up its exploration after Zheng He?  How would the world be different to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259092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0880" y="4038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  Which conclusion about Zheng He’s voyages is valid based on the information on this map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fleet traveled only as far as the Bay of Beng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expeditions sailed to ports in Asia and Afr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fleet conquered and controlled Luz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expeditions traded directly with the interior of Afr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1" name="Picture 2" descr="http://www.castlelearning.com/review/Courses/global/q2793.gif?v=20100109015140"/>
          <p:cNvPicPr/>
          <p:nvPr/>
        </p:nvPicPr>
        <p:blipFill>
          <a:blip r:embed="rId1"/>
          <a:stretch/>
        </p:blipFill>
        <p:spPr>
          <a:xfrm>
            <a:off x="2895480" y="152280"/>
            <a:ext cx="6077160" cy="36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European Exploratio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their motiv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tives - What is the easiest way to remember it all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hree G’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e"/>
                </a:solidFill>
                <a:latin typeface="Tahoma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e"/>
                </a:solidFill>
                <a:latin typeface="Tahoma"/>
              </a:rPr>
              <a:t>Gl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e"/>
                </a:solidFill>
                <a:latin typeface="Tahoma"/>
              </a:rPr>
              <a:t>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hough a little simplistic, this mnemonic is a great way to remember the main motivations of the European explor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Picture 4" descr="MCj04042630000[1]"/>
          <p:cNvPicPr/>
          <p:nvPr/>
        </p:nvPicPr>
        <p:blipFill>
          <a:blip r:embed="rId1"/>
          <a:stretch/>
        </p:blipFill>
        <p:spPr>
          <a:xfrm>
            <a:off x="4495680" y="1905120"/>
            <a:ext cx="419112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First G: Gol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40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ld was a hot item that explorers were looking for, but remember that it is really wealth, not just literal gold that explorers were af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pe needed gold (and silver) to fuel the rising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nking system (think Medici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eventually too much gold will be found leading to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f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peans also desired spices (Da Gama’s voyage to India made him a 3000% profit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natural resources would come to be sold for profit as well (timber, sugar, tobacco, ivory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competition will be enhanced by the idea of 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ahoma"/>
              </a:rPr>
              <a:t>mercantilis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emer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actice Reg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 Prices in Spain rose as colonies supplied large amounts of gold and silver. This suggests that Spanish imports of gold and silver l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d shor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employ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suffici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rcantal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613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Didn’t we cover this before – yep it is this importa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ries (Motherlands) wanted colonies for raw materials and markets for manufactured go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nefits go to Motherland on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red to have a “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avorable balance of tra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 – where 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expor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sell) more valuable manufactured goods (guns) and 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impor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buy) cheaper raw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AutoShape 4"/>
          <p:cNvSpPr/>
          <p:nvPr/>
        </p:nvSpPr>
        <p:spPr>
          <a:xfrm>
            <a:off x="7162920" y="30492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90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9" y="407480"/>
                </a:lnTo>
                <a:lnTo>
                  <a:pt x="789790" y="659316"/>
                </a:lnTo>
                <a:lnTo>
                  <a:pt x="924706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6"/>
                </a:lnTo>
                <a:lnTo>
                  <a:pt x="1" y="40748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533520" y="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90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9" y="407480"/>
                </a:lnTo>
                <a:lnTo>
                  <a:pt x="789790" y="659316"/>
                </a:lnTo>
                <a:lnTo>
                  <a:pt x="924706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6"/>
                </a:lnTo>
                <a:lnTo>
                  <a:pt x="1" y="40748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actice Reg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idea is most closely associated with the economic concept of mercantilis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onies exist to provide raw materials and markets for a colonial pow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lth and power are based on land exchanged between no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s and services are traded without government interfer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erty is owned collectively and administered by the sta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at is an Empire?  Imperialism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econd G: Gl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343400" y="1447560"/>
            <a:ext cx="419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ory was a relatively new idea in Eur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me out of the Renaissance ideal of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umanis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nd the focus on individual achie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the rise of the printing press, the idea of gaining fame for one’s actions was more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59"/>
                </a:solidFill>
                <a:latin typeface="Tahoma"/>
              </a:rPr>
              <a:t>Also, individual kings wanted glory for their kingdoms, competition sprea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9" name="Picture 4" descr="The Triumph of Fame, from a set of The Triumphs of Petrarch1502-4Flemish (probably Brussels)Wool and silk tapestry11 ft. 7 in. x 11 ft.Purchase, The Annenberg Foundation Gift, 1998 (1998.205)The Metropolitan Museum of Art"/>
          <p:cNvPicPr/>
          <p:nvPr/>
        </p:nvPicPr>
        <p:blipFill>
          <a:blip r:embed="rId1"/>
          <a:stretch/>
        </p:blipFill>
        <p:spPr>
          <a:xfrm>
            <a:off x="304920" y="1676520"/>
            <a:ext cx="3809880" cy="40669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5"/>
          <p:cNvSpPr/>
          <p:nvPr/>
        </p:nvSpPr>
        <p:spPr>
          <a:xfrm>
            <a:off x="380880" y="5943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he Triumph of Fa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a Flemish tapestry from 150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hird G: G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members of a universalizing religion, Europeans had always seen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preading Christian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s a good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59"/>
                </a:solidFill>
                <a:latin typeface="Tahoma"/>
              </a:rPr>
              <a:t>Especially after the Reformation, competition will spring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nization will become a race to convert native peoples to a particular brand of Christia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its (Catholics) are some of the most 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in under </a:t>
            </a:r>
            <a:r>
              <a:rPr b="0" lang="en-US" sz="2800" spc="-1" strike="noStrike">
                <a:solidFill>
                  <a:srgbClr val="ffff59"/>
                </a:solidFill>
                <a:latin typeface="Tahoma"/>
              </a:rPr>
              <a:t>Queen Isabella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send out priests on every shi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did these explorations begi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irst to encourage new ship explorations was Prince Henry of Portugal, known as “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Prince Henry the Navigat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ed an institute for seafaring and explo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bined ship technology learned from Islam with new European innov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5" name="Picture 4" descr="HENRYNAV"/>
          <p:cNvPicPr/>
          <p:nvPr/>
        </p:nvPicPr>
        <p:blipFill>
          <a:blip r:embed="rId1"/>
          <a:stretch/>
        </p:blipFill>
        <p:spPr>
          <a:xfrm>
            <a:off x="4856040" y="1600200"/>
            <a:ext cx="37767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Arial"/>
              </a:rPr>
              <a:t>Spain vs. Portug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580920" y="236232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ugal had Disadvantage in Asian trade – faced Atlantic, not Mediterranean. 1488 -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artholomeu D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ed Cape of Storms (Good Hope) in Af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 In 1492, Queen Isabella sponsore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olumb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voyage West to India to share in spice trade and spread Christian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6" descr="map_iberian_peninsula"/>
          <p:cNvPicPr/>
          <p:nvPr/>
        </p:nvPicPr>
        <p:blipFill>
          <a:blip r:embed="rId1"/>
          <a:stretch/>
        </p:blipFill>
        <p:spPr>
          <a:xfrm>
            <a:off x="457200" y="1905120"/>
            <a:ext cx="3276720" cy="28177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8" descr="dias2"/>
          <p:cNvPicPr/>
          <p:nvPr/>
        </p:nvPicPr>
        <p:blipFill>
          <a:blip r:embed="rId2"/>
          <a:stretch/>
        </p:blipFill>
        <p:spPr>
          <a:xfrm>
            <a:off x="7162920" y="0"/>
            <a:ext cx="161136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http://www.sheltonstate.edu/Uploads/files/faculty/Chuck%20Boening/us%20history%20maps/Columbus'%20First%20Voyage.jpg"/>
          <p:cNvPicPr/>
          <p:nvPr/>
        </p:nvPicPr>
        <p:blipFill>
          <a:blip r:embed="rId2"/>
          <a:stretch/>
        </p:blipFill>
        <p:spPr>
          <a:xfrm>
            <a:off x="762120" y="558720"/>
            <a:ext cx="7475400" cy="627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 Which geographic feature of Spain and Portugal most enhanced their ability to engage in explora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ninsular lo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untainous reg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river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rtile pl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.  One reason Spain sponsored the first voyage of Columbus to the west was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a more direct trade route to As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tain military 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contact with the Empire of Ben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e in established ports in the Amer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eaty of Tordesi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and Portugal disputed each others right to explore new lands, so the Pope arranged a settlement (since both were Catholic na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94- Spain and Portugal signed the Treaty of Tordesillas, which drew a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ine of Demarc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western Atlant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5-Point Star 1"/>
          <p:cNvSpPr/>
          <p:nvPr/>
        </p:nvSpPr>
        <p:spPr>
          <a:xfrm>
            <a:off x="7010280" y="533520"/>
            <a:ext cx="990720" cy="914400"/>
          </a:xfrm>
          <a:custGeom>
            <a:avLst/>
            <a:gdLst/>
            <a:ahLst/>
            <a:rect l="l" t="t" r="r" b="b"/>
            <a:pathLst>
              <a:path w="990600" h="914400">
                <a:moveTo>
                  <a:pt x="1" y="349269"/>
                </a:moveTo>
                <a:lnTo>
                  <a:pt x="378378" y="349271"/>
                </a:lnTo>
                <a:lnTo>
                  <a:pt x="495300" y="0"/>
                </a:lnTo>
                <a:lnTo>
                  <a:pt x="612222" y="349271"/>
                </a:lnTo>
                <a:lnTo>
                  <a:pt x="990599" y="349269"/>
                </a:lnTo>
                <a:lnTo>
                  <a:pt x="684484" y="565128"/>
                </a:lnTo>
                <a:lnTo>
                  <a:pt x="801412" y="914398"/>
                </a:lnTo>
                <a:lnTo>
                  <a:pt x="495300" y="698535"/>
                </a:lnTo>
                <a:lnTo>
                  <a:pt x="189188" y="914398"/>
                </a:lnTo>
                <a:lnTo>
                  <a:pt x="306116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treaty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95960"/>
          </a:xfrm>
          <a:prstGeom prst="rect">
            <a:avLst/>
          </a:prstGeom>
          <a:ln w="0">
            <a:noFill/>
          </a:ln>
        </p:spPr>
      </p:pic>
      <p:sp>
        <p:nvSpPr>
          <p:cNvPr id="581" name="AutoShape 3"/>
          <p:cNvSpPr/>
          <p:nvPr/>
        </p:nvSpPr>
        <p:spPr>
          <a:xfrm>
            <a:off x="7162920" y="457200"/>
            <a:ext cx="1447560" cy="1143000"/>
          </a:xfrm>
          <a:custGeom>
            <a:avLst/>
            <a:gdLst/>
            <a:ahLst/>
            <a:rect l="l" t="t" r="r" b="b"/>
            <a:pathLst>
              <a:path w="1447800" h="1143000">
                <a:moveTo>
                  <a:pt x="2" y="436586"/>
                </a:moveTo>
                <a:lnTo>
                  <a:pt x="553013" y="436589"/>
                </a:lnTo>
                <a:lnTo>
                  <a:pt x="723900" y="0"/>
                </a:lnTo>
                <a:lnTo>
                  <a:pt x="894787" y="436589"/>
                </a:lnTo>
                <a:lnTo>
                  <a:pt x="1447798" y="436586"/>
                </a:lnTo>
                <a:lnTo>
                  <a:pt x="1000400" y="706410"/>
                </a:lnTo>
                <a:lnTo>
                  <a:pt x="1171294" y="1142997"/>
                </a:lnTo>
                <a:lnTo>
                  <a:pt x="723900" y="873168"/>
                </a:lnTo>
                <a:lnTo>
                  <a:pt x="276506" y="1142997"/>
                </a:lnTo>
                <a:lnTo>
                  <a:pt x="447400" y="706410"/>
                </a:lnTo>
                <a:lnTo>
                  <a:pt x="2" y="43658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Picture 4" descr="Dividing_New_World"/>
          <p:cNvPicPr/>
          <p:nvPr/>
        </p:nvPicPr>
        <p:blipFill>
          <a:blip r:embed="rId2"/>
          <a:stretch/>
        </p:blipFill>
        <p:spPr>
          <a:xfrm>
            <a:off x="6019920" y="4648320"/>
            <a:ext cx="2438280" cy="199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</a:rPr>
              <a:t>Portugal’s Explorers since Treaty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97-1498 -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Vasco da G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hed India around Afr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0- Pedro Cabral found Braz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5" name="Picture 8" descr="Brazil_map"/>
          <p:cNvPicPr/>
          <p:nvPr/>
        </p:nvPicPr>
        <p:blipFill>
          <a:blip r:embed="rId1"/>
          <a:stretch/>
        </p:blipFill>
        <p:spPr>
          <a:xfrm>
            <a:off x="5791320" y="3886200"/>
            <a:ext cx="2212920" cy="23623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Dagamamap"/>
          <p:cNvPicPr/>
          <p:nvPr/>
        </p:nvPicPr>
        <p:blipFill>
          <a:blip r:embed="rId2"/>
          <a:stretch/>
        </p:blipFill>
        <p:spPr>
          <a:xfrm>
            <a:off x="4724280" y="990720"/>
            <a:ext cx="4267440" cy="2465280"/>
          </a:xfrm>
          <a:prstGeom prst="rect">
            <a:avLst/>
          </a:prstGeom>
          <a:ln w="0">
            <a:noFill/>
          </a:ln>
        </p:spPr>
      </p:pic>
      <p:sp>
        <p:nvSpPr>
          <p:cNvPr id="587" name="5-Point Star 1"/>
          <p:cNvSpPr/>
          <p:nvPr/>
        </p:nvSpPr>
        <p:spPr>
          <a:xfrm>
            <a:off x="3962520" y="1413000"/>
            <a:ext cx="609480" cy="747720"/>
          </a:xfrm>
          <a:custGeom>
            <a:avLst/>
            <a:gdLst/>
            <a:ahLst/>
            <a:rect l="l" t="t" r="r" b="b"/>
            <a:pathLst>
              <a:path w="609600" h="747713">
                <a:moveTo>
                  <a:pt x="1" y="285600"/>
                </a:moveTo>
                <a:lnTo>
                  <a:pt x="232848" y="285602"/>
                </a:lnTo>
                <a:lnTo>
                  <a:pt x="304800" y="0"/>
                </a:lnTo>
                <a:lnTo>
                  <a:pt x="376752" y="285602"/>
                </a:lnTo>
                <a:lnTo>
                  <a:pt x="609599" y="285600"/>
                </a:lnTo>
                <a:lnTo>
                  <a:pt x="421221" y="462110"/>
                </a:lnTo>
                <a:lnTo>
                  <a:pt x="493176" y="747711"/>
                </a:lnTo>
                <a:lnTo>
                  <a:pt x="304800" y="571198"/>
                </a:lnTo>
                <a:lnTo>
                  <a:pt x="116424" y="747711"/>
                </a:lnTo>
                <a:lnTo>
                  <a:pt x="188379" y="462110"/>
                </a:lnTo>
                <a:lnTo>
                  <a:pt x="1" y="285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early 1400s, new technology enabled expl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tter maps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artograph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from Marco Polo’s and Arab geographers’ information had lines of latit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ships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arav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had many masts so had more sail and could go farther with more cargo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Late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triangular) sail 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rn rudder enabled ships 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il into the w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Arial"/>
              </a:rPr>
              <a:t>New Technolog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84" name="Picture 4" descr="astrolabe"/>
          <p:cNvPicPr/>
          <p:nvPr/>
        </p:nvPicPr>
        <p:blipFill>
          <a:blip r:embed="rId1"/>
          <a:stretch/>
        </p:blipFill>
        <p:spPr>
          <a:xfrm>
            <a:off x="6858000" y="0"/>
            <a:ext cx="1558800" cy="1676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Arrow  Red Attention"/>
          <p:cNvPicPr/>
          <p:nvPr/>
        </p:nvPicPr>
        <p:blipFill>
          <a:blip r:embed="rId2"/>
          <a:stretch/>
        </p:blipFill>
        <p:spPr>
          <a:xfrm>
            <a:off x="0" y="2438280"/>
            <a:ext cx="990720" cy="5335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7" name="Picture 13" descr="10508d1164742507-lateen-sails-neptune"/>
          <p:cNvPicPr/>
          <p:nvPr/>
        </p:nvPicPr>
        <p:blipFill>
          <a:blip r:embed="rId3"/>
          <a:stretch/>
        </p:blipFill>
        <p:spPr>
          <a:xfrm>
            <a:off x="6400800" y="4724280"/>
            <a:ext cx="2000160" cy="20005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Arial"/>
              </a:rPr>
              <a:t>Spai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13- Vasco de Balboa found Pacific Ocean;  Juan Ponce de Leon  found Flor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19-1522-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erdinand Magellan circumnavig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lo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0" name="Picture 4" descr="halfmoon"/>
          <p:cNvPicPr/>
          <p:nvPr/>
        </p:nvPicPr>
        <p:blipFill>
          <a:blip r:embed="rId1"/>
          <a:stretch/>
        </p:blipFill>
        <p:spPr>
          <a:xfrm>
            <a:off x="4572000" y="0"/>
            <a:ext cx="378936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AutoShape 6"/>
          <p:cNvSpPr/>
          <p:nvPr/>
        </p:nvSpPr>
        <p:spPr>
          <a:xfrm>
            <a:off x="3581280" y="4191120"/>
            <a:ext cx="1143000" cy="838080"/>
          </a:xfrm>
          <a:custGeom>
            <a:avLst/>
            <a:gdLst/>
            <a:ahLst/>
            <a:rect l="l" t="t" r="r" b="b"/>
            <a:pathLst>
              <a:path w="1143000" h="838200">
                <a:moveTo>
                  <a:pt x="1" y="320163"/>
                </a:moveTo>
                <a:lnTo>
                  <a:pt x="436590" y="320165"/>
                </a:lnTo>
                <a:lnTo>
                  <a:pt x="571500" y="0"/>
                </a:lnTo>
                <a:lnTo>
                  <a:pt x="706410" y="320165"/>
                </a:lnTo>
                <a:lnTo>
                  <a:pt x="1142999" y="320163"/>
                </a:lnTo>
                <a:lnTo>
                  <a:pt x="789790" y="518034"/>
                </a:lnTo>
                <a:lnTo>
                  <a:pt x="924706" y="838198"/>
                </a:lnTo>
                <a:lnTo>
                  <a:pt x="571500" y="640323"/>
                </a:lnTo>
                <a:lnTo>
                  <a:pt x="218294" y="838198"/>
                </a:lnTo>
                <a:lnTo>
                  <a:pt x="353210" y="518034"/>
                </a:lnTo>
                <a:lnTo>
                  <a:pt x="1" y="320163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7" descr="magellan_map"/>
          <p:cNvPicPr/>
          <p:nvPr/>
        </p:nvPicPr>
        <p:blipFill>
          <a:blip r:embed="rId1"/>
          <a:stretch/>
        </p:blipFill>
        <p:spPr>
          <a:xfrm>
            <a:off x="380880" y="609480"/>
            <a:ext cx="8763120" cy="492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Strait of Magellan – Naming of “Pacific”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AIT OF MAGELLAN WAS A CONNECTION BETWEEN THE PACIFIC AND THE ATLANTIC OC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A 300 MILE MAZE OF MANY DIFFERENT ISLAN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d Ocean – Pacific because so cal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7" name="Picture 4" descr="Map - Click to zoom"/>
          <p:cNvPicPr/>
          <p:nvPr/>
        </p:nvPicPr>
        <p:blipFill>
          <a:blip r:embed="rId1"/>
          <a:stretch/>
        </p:blipFill>
        <p:spPr>
          <a:xfrm>
            <a:off x="5486400" y="2286000"/>
            <a:ext cx="2895480" cy="2679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agellan’s Travels -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RDINAND SAILED FOR SPAIN TO SHOW THAT THE SPICE ISLANDS BELONGED TO SPAIN AND NOT TO PORTUGAL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60 MEN AND 5 SHIPS SET OUT ON THE VOYAGE BUT ONLY 18 MEN AND ONE SHIP SURVIVED THE VOY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ELLAN DIED ON APRIL 21, 1521 IN THE PHILIPPINE ISLANDS BY ANGERING THE NATIVES BY CONVERT THEM TO CHRISTIANITY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was a result of the efforts of Prince Henry of Portugal, Christopher Columbus, and Ferdinand Magella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mportance of Mediterranean trade routes was establish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dern concept of universal human rights was promo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uropean view of the physical world was transform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understanding of the benefits of cultural diversity was encourag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97-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John Cab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 Italian, explored North America from Delaware to Newfoundland looking for a Northwest passage to As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78-79-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r Francis Dr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ided Spanish settlements on the West coast of the Americas, then sailed    around the globe back to Eng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5" descr="drake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      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rance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Netherland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524- Giovanni da Verrazano, an Italian, explored from the Carolinas  to Nova Scot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534-36- Jacques Cartier sailed up St. Lawrence River, looking for the Pacif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24280" y="48769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609- Henry Hudson, of England, sailed up Hudson River to Albany, looking for NW pass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8" name="Picture 4" descr="currents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143000"/>
            <a:ext cx="2860920" cy="358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WordArt 4"/>
          <p:cNvSpPr txBox="1"/>
          <p:nvPr/>
        </p:nvSpPr>
        <p:spPr>
          <a:xfrm>
            <a:off x="1676520" y="380880"/>
            <a:ext cx="6172200" cy="22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pans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1" name="Picture 5" descr="siege2"/>
          <p:cNvPicPr/>
          <p:nvPr/>
        </p:nvPicPr>
        <p:blipFill>
          <a:blip r:embed="rId1"/>
          <a:stretch/>
        </p:blipFill>
        <p:spPr>
          <a:xfrm>
            <a:off x="1752480" y="2895480"/>
            <a:ext cx="5943600" cy="369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outh Amer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nish rulers  granted conquistadores the right to establish colonies in exchange for 1/5th of any treasure they f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duced risk to monarchs, since 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quistador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sed their own 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eroyalties of New Spain (Mexico) and Peru had Monarch-appointed viceroys in charge with Council of Indies in Spain to make 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each town/city, the King appointed members of a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cabild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city council) which preserved or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4" name="Picture 4" descr="quet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                                 </a:t>
            </a:r>
            <a:r>
              <a:rPr b="1" lang="en-US" sz="3400" spc="-1" strike="noStrike">
                <a:solidFill>
                  <a:srgbClr val="ff0000"/>
                </a:solidFill>
                <a:latin typeface="Garamond"/>
              </a:rPr>
              <a:t>Fransico Pizarro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19- landed in Mexico in search of go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otiated with Montezuma, the Aztec leader, until he agreed to become a subject of the Spanish k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troyed Tenochtitlan, causing the Aztec Empire to crum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952880" y="13716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29- Pizarro landed in Pe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k advantage of a civil war in the Inca Empire and captured Atahualpa, their leader, and executed many offic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out a strong leadership, the Inca forces were no match for Pizarro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8" name="Picture 5" descr="cortes4"/>
          <p:cNvPicPr/>
          <p:nvPr/>
        </p:nvPicPr>
        <p:blipFill>
          <a:blip r:embed="rId1"/>
          <a:stretch/>
        </p:blipFill>
        <p:spPr>
          <a:xfrm>
            <a:off x="4038480" y="4876920"/>
            <a:ext cx="1704960" cy="18288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228600" y="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Hernando Cort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Garamond"/>
              </a:rPr>
              <a:t>Astrolab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tronomical tool for solving problems relating to time and the position of the Sun and stars in the sk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e by drawing the sky on the face of the astrolabe and marking it, so positions in the sky are easy to fi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 made of brass and was about 6 inches in diame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1" name="Picture 4" descr="[Fusoris Astrolabe Front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24600" y="1314360"/>
            <a:ext cx="3924000" cy="4857840"/>
          </a:xfrm>
          <a:prstGeom prst="rect">
            <a:avLst/>
          </a:prstGeom>
          <a:ln w="0">
            <a:noFill/>
          </a:ln>
        </p:spPr>
      </p:pic>
      <p:sp>
        <p:nvSpPr>
          <p:cNvPr id="492" name="AutoShape 5"/>
          <p:cNvSpPr/>
          <p:nvPr/>
        </p:nvSpPr>
        <p:spPr>
          <a:xfrm>
            <a:off x="3352680" y="152280"/>
            <a:ext cx="1447920" cy="1067040"/>
          </a:xfrm>
          <a:custGeom>
            <a:avLst/>
            <a:gdLst/>
            <a:ahLst/>
            <a:rect l="l" t="t" r="r" b="b"/>
            <a:pathLst>
              <a:path w="1447800" h="1066800">
                <a:moveTo>
                  <a:pt x="2" y="407480"/>
                </a:moveTo>
                <a:lnTo>
                  <a:pt x="553013" y="407483"/>
                </a:lnTo>
                <a:lnTo>
                  <a:pt x="723900" y="0"/>
                </a:lnTo>
                <a:lnTo>
                  <a:pt x="894787" y="407483"/>
                </a:lnTo>
                <a:lnTo>
                  <a:pt x="1447798" y="407480"/>
                </a:lnTo>
                <a:lnTo>
                  <a:pt x="1000400" y="659316"/>
                </a:lnTo>
                <a:lnTo>
                  <a:pt x="1171294" y="1066797"/>
                </a:lnTo>
                <a:lnTo>
                  <a:pt x="723900" y="814957"/>
                </a:lnTo>
                <a:lnTo>
                  <a:pt x="276506" y="1066797"/>
                </a:lnTo>
                <a:lnTo>
                  <a:pt x="447400" y="659316"/>
                </a:lnTo>
                <a:lnTo>
                  <a:pt x="2" y="40748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1.  The Encounter occurred as a result of European explorers crossing t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lantic Oce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hara Des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es Mount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terranean S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easons for Ease of Conques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nish ha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tter weap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guns/cann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nish had horses which frightened the Aztec and In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nish were thought to be g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sea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small pox) carried by Europeans weakened both empires by wiping out entire vill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an nations hated their oppressive rulers and helped the Spanis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5-Point Star 1"/>
          <p:cNvSpPr/>
          <p:nvPr/>
        </p:nvSpPr>
        <p:spPr>
          <a:xfrm>
            <a:off x="8001000" y="304920"/>
            <a:ext cx="990720" cy="914400"/>
          </a:xfrm>
          <a:custGeom>
            <a:avLst/>
            <a:gdLst/>
            <a:ahLst/>
            <a:rect l="l" t="t" r="r" b="b"/>
            <a:pathLst>
              <a:path w="990600" h="914400">
                <a:moveTo>
                  <a:pt x="1" y="349269"/>
                </a:moveTo>
                <a:lnTo>
                  <a:pt x="378378" y="349271"/>
                </a:lnTo>
                <a:lnTo>
                  <a:pt x="495300" y="0"/>
                </a:lnTo>
                <a:lnTo>
                  <a:pt x="612222" y="349271"/>
                </a:lnTo>
                <a:lnTo>
                  <a:pt x="990599" y="349269"/>
                </a:lnTo>
                <a:lnTo>
                  <a:pt x="684484" y="565128"/>
                </a:lnTo>
                <a:lnTo>
                  <a:pt x="801412" y="914398"/>
                </a:lnTo>
                <a:lnTo>
                  <a:pt x="495300" y="698535"/>
                </a:lnTo>
                <a:lnTo>
                  <a:pt x="189188" y="914398"/>
                </a:lnTo>
                <a:lnTo>
                  <a:pt x="306116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26" name="Picture 5" descr="Native_American_Population_Chart_1518-1593_06"/>
          <p:cNvPicPr/>
          <p:nvPr/>
        </p:nvPicPr>
        <p:blipFill>
          <a:blip r:embed="rId1"/>
          <a:stretch/>
        </p:blipFill>
        <p:spPr>
          <a:xfrm>
            <a:off x="838080" y="533520"/>
            <a:ext cx="6934320" cy="613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77920" y="18284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 Which statement can best be supported by the information provided in the grap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dian population in Mexico steadily increased between 1500 and 17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ffects of the Spanish conquest on the Indian population in Mexico were most severe between 1500 and 154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panish conquest of Mexico improved the standard of living for the Indian population in Mex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nish influence in Mexico had ended by 17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9" name="Picture 4" descr="http://www.castlelearning.com/review/Courses/Global/gs142.gif?v=20001227040504"/>
          <p:cNvPicPr/>
          <p:nvPr/>
        </p:nvPicPr>
        <p:blipFill>
          <a:blip r:embed="rId1"/>
          <a:stretch/>
        </p:blipFill>
        <p:spPr>
          <a:xfrm>
            <a:off x="5764320" y="1447920"/>
            <a:ext cx="3352680" cy="416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reatment of India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nish government granted settlers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ncomiend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right to demand taxes or labor from Ind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ced Indians to mine silver, died of cave-ins, malnutrition,overwork,and disea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5-Point Star 1"/>
          <p:cNvSpPr/>
          <p:nvPr/>
        </p:nvSpPr>
        <p:spPr>
          <a:xfrm>
            <a:off x="7440480" y="1371600"/>
            <a:ext cx="609840" cy="609480"/>
          </a:xfrm>
          <a:custGeom>
            <a:avLst/>
            <a:gdLst/>
            <a:ahLst/>
            <a:rect l="l" t="t" r="r" b="b"/>
            <a:pathLst>
              <a:path w="609600" h="609600">
                <a:moveTo>
                  <a:pt x="1" y="232846"/>
                </a:moveTo>
                <a:lnTo>
                  <a:pt x="232848" y="232848"/>
                </a:lnTo>
                <a:lnTo>
                  <a:pt x="304800" y="0"/>
                </a:lnTo>
                <a:lnTo>
                  <a:pt x="376752" y="232848"/>
                </a:lnTo>
                <a:lnTo>
                  <a:pt x="609599" y="232846"/>
                </a:lnTo>
                <a:lnTo>
                  <a:pt x="421221" y="376752"/>
                </a:lnTo>
                <a:lnTo>
                  <a:pt x="493176" y="609598"/>
                </a:lnTo>
                <a:lnTo>
                  <a:pt x="304800" y="465690"/>
                </a:lnTo>
                <a:lnTo>
                  <a:pt x="116424" y="609598"/>
                </a:lnTo>
                <a:lnTo>
                  <a:pt x="188379" y="376752"/>
                </a:lnTo>
                <a:lnTo>
                  <a:pt x="1" y="23284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75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3.  Which country is responsible for the extensive colonial use of the encomienda labor syste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.  The Spanish encomienda system in the Americas resulted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ening of indigenous cul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tical independence for the colon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xploitation of n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igious freedom for the majority of peas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3124080" y="1600200"/>
            <a:ext cx="6019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rtolome de Las Casas pleaded with Spanish authorities to rectify maltreat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ew Laws of 1542 were passed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orbidding Indian slaver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granting them the right to own 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1182960" y="609480"/>
            <a:ext cx="643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rtolome de Las Casa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9" name="Picture 4" descr="casas1"/>
          <p:cNvPicPr/>
          <p:nvPr/>
        </p:nvPicPr>
        <p:blipFill>
          <a:blip r:embed="rId1"/>
          <a:stretch/>
        </p:blipFill>
        <p:spPr>
          <a:xfrm>
            <a:off x="228600" y="1905120"/>
            <a:ext cx="3208320" cy="3429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5"/>
          <p:cNvSpPr/>
          <p:nvPr/>
        </p:nvSpPr>
        <p:spPr>
          <a:xfrm>
            <a:off x="457200" y="548496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Las Casa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uggested African slav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used for plantation farming, and Spain began importing thousands of sl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1120" y="325080"/>
            <a:ext cx="762768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Brazi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ng of Portugal appointed captain general to oversee colon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 gave loyal subjects land an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onatar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land owner) enlisted settlers to farm or trade on his l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orted slaves to work sugar pla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OST SLAVES THAT CAME TO AMERICAS CAME TO WORK IN SUGAR FIELDS OF BRAZI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3" name="Picture 7" descr="brazil"/>
          <p:cNvPicPr/>
          <p:nvPr/>
        </p:nvPicPr>
        <p:blipFill>
          <a:blip r:embed="rId1"/>
          <a:stretch/>
        </p:blipFill>
        <p:spPr>
          <a:xfrm>
            <a:off x="5029200" y="1828800"/>
            <a:ext cx="337032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North Amer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49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il 1600s, Dutch, English, and French were too busy with religious wars and political troubles to explore. Then they explored north of Mexico where Spain/Portugal were not stro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in, looking for legendary cities of gold, explored north first, but settlements were not as profitable as southern ones, so they were paid little att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colonies of England, France, and the Netherlands grew, they competed for l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land took New Netherland from Dutch, renamed New Y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,allied with Algonquin, fought Dutch,allied with Iroquois, and caused Indian tribes to clas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Arial"/>
              </a:rPr>
              <a:t>Moti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uropean Monarchs sponsored voyage in hopes 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reased trade (thanks to crusad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profitable emp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rtuguese hoped to reach Asia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pas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alian and Muslim traders i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diterranean S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panish  wer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al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Portuguese success and wan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pread Catholicism (since Protestant Reformation lost many Catholic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5" name="Picture 4" descr="isabella"/>
          <p:cNvPicPr/>
          <p:nvPr/>
        </p:nvPicPr>
        <p:blipFill>
          <a:blip r:embed="rId1"/>
          <a:stretch/>
        </p:blipFill>
        <p:spPr>
          <a:xfrm>
            <a:off x="6832440" y="380880"/>
            <a:ext cx="231156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http://www.chinatouristmaps.com/assets/images/travelmapxz/Sketch-Map-of-Silk-Road.jpg"/>
          <p:cNvPicPr/>
          <p:nvPr/>
        </p:nvPicPr>
        <p:blipFill>
          <a:blip r:embed="rId2"/>
          <a:stretch/>
        </p:blipFill>
        <p:spPr>
          <a:xfrm>
            <a:off x="2286000" y="4290840"/>
            <a:ext cx="5334120" cy="254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Dutch / Swedish Colon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herlands organize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Dutch West India Compan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built a colony in present-day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ew Yor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 Peter Minuit - New Netherland, gave land to patroons (wealthy landowners) who brought over farmers to work their est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8" name="Picture 4" descr="minuit"/>
          <p:cNvPicPr/>
          <p:nvPr/>
        </p:nvPicPr>
        <p:blipFill>
          <a:blip r:embed="rId1"/>
          <a:stretch/>
        </p:blipFill>
        <p:spPr>
          <a:xfrm>
            <a:off x="6553080" y="2590920"/>
            <a:ext cx="2146320" cy="28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6600" y="325080"/>
            <a:ext cx="762768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rench Colon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9296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Cartier explored St. Lawrence, French found that furs could be sold for great profits in Euro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ance did little to encourage settlem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New France, forbidding Huguenots to move to escape persecution. 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Got along much better with natives because of th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uel de Champlain set up a permanent settlement in Quebec, from which the French expanded farther into Canada, setting up trading posts and forts for fur 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75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nglish Colon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lish settled from Newfoundland to Georgia, eventually had 13 colonies, small farms in North, plantations in Sou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assembly controlled king-appointed governor’s salary and consented to his 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ought with Indians for l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ame to colonies for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ligious freedo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itans in MA, RI, CT ; Quakers in PA ; Catholics in M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Languages Groups – Cultural Diffusio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54" name="Picture 6" descr="Learn world languages"/>
          <p:cNvPicPr/>
          <p:nvPr/>
        </p:nvPicPr>
        <p:blipFill>
          <a:blip r:embed="rId1"/>
          <a:stretch/>
        </p:blipFill>
        <p:spPr>
          <a:xfrm>
            <a:off x="1143000" y="1905120"/>
            <a:ext cx="7559640" cy="3946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5.  Why is Catholicism a major religion practiced in Latin Americ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in conquered and colonized much of Latin Amer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utes over international boundaries within Latin America were settled by the po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raditional beliefs of Africans were incorporated into the cultures of Latin Amer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hurch provided Latin America with a strong central gover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.  Which of these events during the Age of Exploration was a cause of the other thre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uropeans brought food, animals, and ideas from one continent to anot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uropean diseases had an adverse effect on the native populations of new territor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fare increased as European nations competed for land and po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vances in learning and technology made long ocean voyages possi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Ques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 In the 14th and 15th centuries, Western Europeans sought an all-water route to Asia in order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k the Italian trade monopo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imulate progress in agricul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new territory to their empi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port surplus population to colonies in As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age in slave tra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 Which technological development enabled European navigators to determine their location during the Age of Explora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en sa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trola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b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a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factors were pushing Europeans to explore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94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line of Mongol Empire in 1400s made goods from the east harder to get, more expens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l of Constantinople to the Ottoman Turks in 1453 was a major block to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Picture 4" descr="Siege_of_Constantinople"/>
          <p:cNvPicPr/>
          <p:nvPr/>
        </p:nvPicPr>
        <p:blipFill>
          <a:blip r:embed="rId1"/>
          <a:stretch/>
        </p:blipFill>
        <p:spPr>
          <a:xfrm>
            <a:off x="4191120" y="1828800"/>
            <a:ext cx="48006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2T14:39:31Z</dcterms:created>
  <dc:creator>RK Herbert</dc:creator>
  <dc:description/>
  <dc:language>en-US</dc:language>
  <cp:lastModifiedBy>Windows User</cp:lastModifiedBy>
  <dcterms:modified xsi:type="dcterms:W3CDTF">2014-04-24T11:15:46Z</dcterms:modified>
  <cp:revision>93</cp:revision>
  <dc:subject/>
  <dc:title>Exploration and Expansion</dc:title>
</cp:coreProperties>
</file>